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CASHREG.WAV" ContentType="audio/x-wav"/>
  <Override PartName="/ppt/media/CAMERA.WAV" ContentType="audio/x-wav"/>
  <Override PartName="/ppt/media/CARBRAKE.WAV" ContentType="audio/x-wav"/>
  <Override PartName="/ppt/media/image8.png" ContentType="image/png"/>
  <Override PartName="/ppt/media/image3.png" ContentType="image/png"/>
  <Override PartName="/ppt/media/image11.wmf" ContentType="image/x-wmf"/>
  <Override PartName="/ppt/media/image17.wmf" ContentType="image/x-wmf"/>
  <Override PartName="/ppt/media/DRIVEBY.WAV" ContentType="audio/x-wav"/>
  <Override PartName="/ppt/media/image7.png" ContentType="image/png"/>
  <Override PartName="/ppt/media/GLASS.WAV" ContentType="audio/x-wav"/>
  <Override PartName="/ppt/media/image15.wmf" ContentType="image/x-wmf"/>
  <Override PartName="/ppt/media/image4.png" ContentType="image/png"/>
  <Override PartName="/ppt/media/image12.wmf" ContentType="image/x-wmf"/>
  <Override PartName="/ppt/media/TYPE.WAV" ContentType="audio/x-wav"/>
  <Override PartName="/ppt/media/image9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LASER.WAV" ContentType="audio/x-wav"/>
  <Override PartName="/ppt/media/image5.png" ContentType="image/png"/>
  <Override PartName="/ppt/media/image1.png" ContentType="image/png"/>
  <Override PartName="/ppt/media/CHIMES.WAV" ContentType="audio/x-wav"/>
  <Override PartName="/ppt/media/image18.wmf" ContentType="image/x-wmf"/>
  <Override PartName="/ppt/media/RICOCHET.WAV" ContentType="audio/x-wav"/>
  <Override PartName="/ppt/media/PROJCTOR.WAV" ContentType="audio/x-wav"/>
  <Override PartName="/ppt/media/image13.wmf" ContentType="image/x-wmf"/>
  <Override PartName="/ppt/media/EXPLODE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AEFB-1E77-4214-9DD1-6FD01D85A492}" type="slidenum">
              <a:rPr b="0" i="1" lang="en-US" sz="10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C079-7286-4117-854A-3DE87F965EC8}" type="slidenum">
              <a:rPr b="0" i="1" lang="en-US" sz="10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EC74-5C8D-4963-BC59-086099B4C73C}" type="slidenum">
              <a:rPr b="0" i="1" lang="en-US" sz="10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A6E-B809-41B4-94ED-441BC182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39A-7A41-4EE6-9026-FD259B79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775-0CAA-47BA-9FE4-A1BFCF1D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1CF-7046-4C84-8F13-618520E0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5368-3C86-4864-949F-33E775C7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7569-5919-4C9F-A26D-307CEB8D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6FF3-456B-4EC2-A2C8-5CE132EE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8521-DE63-4E3B-855A-63EC33B9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7E43-ECE2-48D0-ADB3-4EC3DC95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EFC9-A9E4-4455-AD4F-60A8E2E4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4632-AC63-4376-8CA0-FBD293FD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0BE-EC5C-4CC6-990E-0AC0477E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D561-BF08-4112-A115-4416E036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7AD2-B3E8-439E-8554-5F9327ED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7F6E-9E33-4E2B-8005-557695D0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57CE-26C9-4F3F-AA4F-A7837244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841D-25DD-4D7E-9EF5-8C753E81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0D6-3439-4AD1-9222-63D18B54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342-761D-493E-962F-DD3494B7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8FD-4FD0-420A-934D-124C614D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B72-A62D-43BC-978D-2054C740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DB6-31D5-48C8-AF0E-1C45EAE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094-AC3D-4B82-8C1C-38626E1A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B12-9734-40B7-84A4-1C32D8D1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7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grpSp>
          <p:nvGrpSpPr>
            <p:cNvPr id="8" name="Group 15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9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22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6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9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3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6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0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4B34-F1C2-43DF-B512-EEE97A4A701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1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2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79" name="Rectangle 3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1" name="Rectangle 5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ffcc"/>
                </a:solidFill>
                <a:latin typeface="Times New Roman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0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23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7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6" name="Freeform 19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7" name="Freeform 20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8" name="Freeform 21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30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4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2" name="Freeform 25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3" name="Freeform 26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5" name="Freeform 28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  <p:sp>
            <p:nvSpPr>
              <p:cNvPr id="106" name="Freeform 29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E0F4-DAAD-4099-9B20-7D63E0AE900F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RICOCHET.WAV"/><Relationship Id="rId3" Type="http://schemas.openxmlformats.org/officeDocument/2006/relationships/audio" Target="../media/CARBRAKE.WAV"/><Relationship Id="rId4" Type="http://schemas.openxmlformats.org/officeDocument/2006/relationships/audio" Target="../media/CASHREG.WAV"/><Relationship Id="rId5" Type="http://schemas.openxmlformats.org/officeDocument/2006/relationships/audio" Target="../media/DRUMROLL.WAV"/><Relationship Id="rId6" Type="http://schemas.openxmlformats.org/officeDocument/2006/relationships/audio" Target="../media/CHIMES.WAV"/><Relationship Id="rId7" Type="http://schemas.openxmlformats.org/officeDocument/2006/relationships/audio" Target="../media/GLASS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cc"/>
                </a:solidFill>
                <a:latin typeface="Times New Roman"/>
              </a:rPr>
              <a:t>El Pretérito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3809880" y="4724280"/>
          <a:ext cx="127656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724280"/>
                    <a:ext cx="127656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Object 3"/>
          <p:cNvGraphicFramePr/>
          <p:nvPr/>
        </p:nvGraphicFramePr>
        <p:xfrm>
          <a:off x="1166760" y="1797120"/>
          <a:ext cx="718812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1797120"/>
                    <a:ext cx="71881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S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(I was, you wer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Yo fui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Tú fui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 fu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osotros fui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Vosotros fui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los fue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5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cc"/>
                </a:solidFill>
                <a:latin typeface="Times New Roman"/>
              </a:rPr>
              <a:t>IR</a:t>
            </a:r>
            <a:br>
              <a:rPr sz="4400"/>
            </a:br>
            <a:r>
              <a:rPr b="1" lang="en-US" sz="4400" spc="-1" strike="noStrike">
                <a:solidFill>
                  <a:srgbClr val="ff00cc"/>
                </a:solidFill>
                <a:latin typeface="Times New Roman"/>
              </a:rPr>
              <a:t>(I went, you went…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 fu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ú fuis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él/ella/Ud. fu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 fuimo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vosotros fuistei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ellos/ellas/Uds. fuer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533520" y="5943600"/>
            <a:ext cx="685800" cy="35712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1460" h="21600">
                <a:moveTo>
                  <a:pt x="0" y="0"/>
                </a:moveTo>
                <a:lnTo>
                  <a:pt x="41460" y="0"/>
                </a:lnTo>
                <a:lnTo>
                  <a:pt x="41460" y="21600"/>
                </a:lnTo>
                <a:lnTo>
                  <a:pt x="0" y="21600"/>
                </a:lnTo>
                <a:close/>
              </a:path>
              <a:path fill="lightenLess" w="41460" h="21600">
                <a:moveTo>
                  <a:pt x="0" y="0"/>
                </a:moveTo>
                <a:lnTo>
                  <a:pt x="41460" y="0"/>
                </a:lnTo>
                <a:lnTo>
                  <a:pt x="40060" y="1400"/>
                </a:lnTo>
                <a:lnTo>
                  <a:pt x="1400" y="1400"/>
                </a:lnTo>
                <a:close/>
              </a:path>
              <a:path fill="darken" w="41460" h="21600">
                <a:moveTo>
                  <a:pt x="41460" y="0"/>
                </a:moveTo>
                <a:lnTo>
                  <a:pt x="41460" y="21600"/>
                </a:lnTo>
                <a:lnTo>
                  <a:pt x="40060" y="20200"/>
                </a:lnTo>
                <a:lnTo>
                  <a:pt x="40060" y="1400"/>
                </a:lnTo>
                <a:close/>
              </a:path>
              <a:path fill="darkenLess" w="41460" h="21600">
                <a:moveTo>
                  <a:pt x="41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0" y="20200"/>
                </a:lnTo>
                <a:close/>
              </a:path>
              <a:path fill="lighten" w="41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0" h="21600">
                <a:moveTo>
                  <a:pt x="13723" y="10800"/>
                </a:moveTo>
                <a:lnTo>
                  <a:pt x="27736" y="3794"/>
                </a:lnTo>
                <a:lnTo>
                  <a:pt x="2773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95" name="AutoShape 6">
            <a:hlinkClick r:id="" action="ppaction://hlinkshowjump?jump=nextslide"/>
          </p:cNvPr>
          <p:cNvSpPr/>
          <p:nvPr/>
        </p:nvSpPr>
        <p:spPr>
          <a:xfrm>
            <a:off x="7848720" y="5943600"/>
            <a:ext cx="761760" cy="357120"/>
          </a:xfrm>
          <a:custGeom>
            <a:avLst/>
            <a:gdLst>
              <a:gd name="textAreaLeft" fmla="*/ 23040 w 761760"/>
              <a:gd name="textAreaRight" fmla="*/ 738720 w 761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6050" h="21600">
                <a:moveTo>
                  <a:pt x="0" y="0"/>
                </a:moveTo>
                <a:lnTo>
                  <a:pt x="46050" y="0"/>
                </a:lnTo>
                <a:lnTo>
                  <a:pt x="46050" y="21600"/>
                </a:lnTo>
                <a:lnTo>
                  <a:pt x="0" y="21600"/>
                </a:lnTo>
                <a:close/>
              </a:path>
              <a:path fill="lightenLess" w="46050" h="21600">
                <a:moveTo>
                  <a:pt x="0" y="0"/>
                </a:moveTo>
                <a:lnTo>
                  <a:pt x="46050" y="0"/>
                </a:lnTo>
                <a:lnTo>
                  <a:pt x="44650" y="1400"/>
                </a:lnTo>
                <a:lnTo>
                  <a:pt x="1400" y="1400"/>
                </a:lnTo>
                <a:close/>
              </a:path>
              <a:path fill="darken" w="46050" h="21600">
                <a:moveTo>
                  <a:pt x="46050" y="0"/>
                </a:moveTo>
                <a:lnTo>
                  <a:pt x="46050" y="21600"/>
                </a:lnTo>
                <a:lnTo>
                  <a:pt x="44650" y="20200"/>
                </a:lnTo>
                <a:lnTo>
                  <a:pt x="44650" y="1400"/>
                </a:lnTo>
                <a:close/>
              </a:path>
              <a:path fill="darkenLess" w="46050" h="21600">
                <a:moveTo>
                  <a:pt x="46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0" y="20200"/>
                </a:lnTo>
                <a:close/>
              </a:path>
              <a:path fill="lighten" w="46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0" h="21600">
                <a:moveTo>
                  <a:pt x="16018" y="3794"/>
                </a:moveTo>
                <a:lnTo>
                  <a:pt x="30031" y="10800"/>
                </a:lnTo>
                <a:lnTo>
                  <a:pt x="16018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Hacer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(I did,you did……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Yo hic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tú hici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él,ella.Ud hiz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nosotros hici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vosotros hici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ellos/ellas/Uds. hicie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1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Práctic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juga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ana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nsa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asta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ee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cibi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ali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4267080" y="2508120"/>
          <a:ext cx="3181320" cy="29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508120"/>
                    <a:ext cx="318132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3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8" dur="3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4" dur="3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0" dur="3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6" dur="3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2" dur="3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3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2" dur="1" fill="hold"/>
                                  <p:tgtEl>
                                    <p:spTgt spid="2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ff"/>
                </a:solidFill>
                <a:uFillTx/>
                <a:latin typeface="Times New Roman"/>
              </a:rPr>
              <a:t>Más Práctic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1.Nosotro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 los libros de histori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2.Ella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pent) 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el dinero en la tiend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3.T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mov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 las bota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4.Manue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un libr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5.Y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f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 la escuela a las do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6.Ello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ou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 u="sng">
                <a:solidFill>
                  <a:srgbClr val="ff00cc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en la clas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7.Pabl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 la loterí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371600" y="533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imes New Roman"/>
              </a:rPr>
              <a:t>Respuestas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9000" y="2473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33520" y="1447920"/>
            <a:ext cx="826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1.Nosotros _______   los libros de historia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2 Ellas __________el dinero en la tienda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3.Tú _________las botas. 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4.Manuel ________un libro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5.Yo ________la escuala a las dos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6.Ellos ____________ en la clase.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7.Pabl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cc"/>
                </a:solidFill>
                <a:latin typeface="Times New Roman"/>
              </a:rPr>
              <a:t>_______</a:t>
            </a:r>
            <a:r>
              <a:rPr b="0" lang="en-US" sz="3600" spc="-1" strike="noStrike">
                <a:solidFill>
                  <a:srgbClr val="ff00cc"/>
                </a:solidFill>
                <a:latin typeface="Times New Roman"/>
              </a:rPr>
              <a:t>la lotería</a:t>
            </a:r>
            <a:r>
              <a:rPr b="0" lang="en-US" sz="3200" spc="-1" strike="noStrike">
                <a:solidFill>
                  <a:srgbClr val="ff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743200" y="1523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ibimos</a:t>
            </a:r>
            <a:endParaRPr b="0" lang="en-US" sz="32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057400" y="2057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gastaron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981080" y="2590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taste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590920" y="3124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yó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190512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í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2133720" y="4114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nsaron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2362320" y="4800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nó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p:transition advTm="0">
    <p:blinds dir="vert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3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.Juan (hacer, ir) la tarea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.Ellos (viajar, buscar) a México aye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3.Yo (comer, leer) un buen libro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.¿ Quién (llegar, ser) tu profesor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.Tú (vivir,comer) todo el pavo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6.Nosotros (hacer,ser) un sandwich 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7.Ud. (beber,recibir) mucho dinero aye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.Vosotros(bailar,llevar) a la music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.Juan __________ la tarea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.Ellos ___________ a México aye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3.Yo ________ un buen libro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.¿ Quién ______ tu profesor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.Tú __________ todo el pavo anoch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6.Nosotros ___________un sandwich 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7.Ud. ___________ mucho dinero aye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.Vosotros ____________a la músic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666880" y="990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hizo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515680" y="1676520"/>
            <a:ext cx="20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viajaron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363400" y="22096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leí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2973960" y="281952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fue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907280" y="335268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comiste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202200" y="38862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Times New Roman"/>
              </a:rPr>
              <a:t>hicimos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440800" y="449568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Times New Roman"/>
              </a:rPr>
              <a:t>recibió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510552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Times New Roman"/>
              </a:rPr>
              <a:t>bailasteis</a:t>
            </a:r>
            <a:endParaRPr b="0" lang="en-US" sz="36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Times New Roman"/>
              </a:rPr>
              <a:t>When do we use it?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 describe an action that took place and has ended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 talk about yesterday and the past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3186000" y="3657600"/>
          <a:ext cx="2909880" cy="24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6000" y="3657600"/>
                    <a:ext cx="290988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" dur="1" fill="hold"/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Times New Roman"/>
              </a:rPr>
              <a:t>Verb E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r” and “ir”(use the same set of endings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2133720" y="3352680"/>
          <a:ext cx="47242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47242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  <p:sndAc>
      <p:stSnd>
        <p:snd r:embed="rId3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26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Hablar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rop the infinitiv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Habl--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ding and add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omer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om--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“pretérito”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Vivir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ding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Viv--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Times New Roman"/>
              </a:rPr>
              <a:t>“</a:t>
            </a:r>
            <a:r>
              <a:rPr b="1" lang="en-US" sz="6600" spc="-1" strike="noStrike">
                <a:solidFill>
                  <a:srgbClr val="0099cc"/>
                </a:solidFill>
                <a:latin typeface="Times New Roman"/>
              </a:rPr>
              <a:t>ar”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é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ó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o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tei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1" name="Object 1028"/>
          <p:cNvGraphicFramePr/>
          <p:nvPr/>
        </p:nvGraphicFramePr>
        <p:xfrm>
          <a:off x="3152880" y="2376360"/>
          <a:ext cx="355284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2376360"/>
                    <a:ext cx="355284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“ 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er &amp; ir”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s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ó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mo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stei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ier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75" name="Object 4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-3808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Habla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yo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é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tú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él/ella/Ud.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ó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osotros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vosotros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los/ellas/Uds. hab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5549760" y="1905120"/>
            <a:ext cx="284328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3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Come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Yo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Tú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ó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osotros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Vosotros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los com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e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5267160" y="2209680"/>
          <a:ext cx="265752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209680"/>
                    <a:ext cx="265752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6" dur="1" fill="hold"/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Escribi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Yo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Tú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s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ó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osotros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m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Vosotros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stei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Ellos escrib</a:t>
            </a: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ier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85" name="Object 4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97036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7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7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75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75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75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75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5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75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5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75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75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5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5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3" dur="1" fill="hold"/>
                                  <p:tgtEl>
                                    <p:spTgt spid="1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RBHS</dc:creator>
  <dc:description/>
  <dc:language>en-US</dc:language>
  <cp:lastModifiedBy>Box Elder School District</cp:lastModifiedBy>
  <dcterms:modified xsi:type="dcterms:W3CDTF">2012-03-12T14:40:24Z</dcterms:modified>
  <cp:revision>55</cp:revision>
  <dc:subject/>
  <dc:title>Training</dc:title>
</cp:coreProperties>
</file>